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8076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19280" y="3988080"/>
            <a:ext cx="8076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784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19280" y="398808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857840" y="398808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50240" y="179856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1560" y="179856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19280" y="3988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450240" y="3988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1560" y="3988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2275-5046-47F3-AA30-FC2DF7F75C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19280" y="179856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185F-5A73-49C5-A9E1-031956B7DC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C8A7-8498-4AF2-A1F4-2F7CA56836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394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7840" y="1798560"/>
            <a:ext cx="394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6010-4C9D-4E72-8F0C-11D37E14CB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EAD3-EB39-48BE-97AA-A33242C746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19280" y="1079280"/>
            <a:ext cx="80769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504D-39CC-4CE6-B49C-183D421299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7840" y="1798560"/>
            <a:ext cx="394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19280" y="398808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6C2F-0FFC-433F-B968-297E1600AD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19280" y="179856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394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784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7840" y="398808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CA23-105A-4C8F-BE1C-2B3586B15F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784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19280" y="3988080"/>
            <a:ext cx="8076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6B1B-7374-4D67-BD7B-4ED6109DCB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8076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19280" y="3988080"/>
            <a:ext cx="8076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4D73-A9FC-49D8-9C7B-52DDF18DA6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784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19280" y="398808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7840" y="398808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3ADD-7E4B-4C1A-841A-749CF467F1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50240" y="179856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1560" y="179856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19280" y="3988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50240" y="3988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1560" y="3988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2308-C27B-489F-A26B-9F943AD3D1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394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857840" y="1798560"/>
            <a:ext cx="394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719280" y="1079280"/>
            <a:ext cx="80769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7840" y="1798560"/>
            <a:ext cx="394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19280" y="398808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394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784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7840" y="398808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7840" y="1798560"/>
            <a:ext cx="3941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19280" y="3988080"/>
            <a:ext cx="8076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Push-and-Pull_vorseite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Push and Pull_unterenbalken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8" name="Fußzeilenplatzhalter 3"/>
          <p:cNvSpPr/>
          <p:nvPr/>
        </p:nvSpPr>
        <p:spPr>
          <a:xfrm>
            <a:off x="719280" y="6477120"/>
            <a:ext cx="5715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push-pull-parking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19280" y="179856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618e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Push and Pull_balken_1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3"/>
          <p:cNvSpPr>
            <a:spLocks noGrp="1"/>
          </p:cNvSpPr>
          <p:nvPr>
            <p:ph type="sldNum" idx="1"/>
          </p:nvPr>
        </p:nvSpPr>
        <p:spPr>
          <a:xfrm>
            <a:off x="-36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631D-0A5D-4E04-A598-B71044BA869E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hteck 1"/>
          <p:cNvSpPr/>
          <p:nvPr/>
        </p:nvSpPr>
        <p:spPr>
          <a:xfrm>
            <a:off x="1187280" y="3357720"/>
            <a:ext cx="66978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c93"/>
                </a:solidFill>
                <a:latin typeface="Arial"/>
              </a:rPr>
              <a:t>Parking management and incentives as successful and proven strategies for energy-efficient urban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ordinated by FGM-AMO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essl, Ro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liennummernplatzhalter 6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59D4-B862-4BF9-9AA5-6547644FF93E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Target groups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8920" y="1904760"/>
            <a:ext cx="807084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c93"/>
                </a:solidFill>
                <a:latin typeface="Arial"/>
              </a:rPr>
              <a:t>3. T</a:t>
            </a:r>
            <a:r>
              <a:rPr b="1" lang="en-GB" sz="2000" spc="-1" strike="noStrike">
                <a:solidFill>
                  <a:srgbClr val="005c93"/>
                </a:solidFill>
                <a:latin typeface="Arial"/>
              </a:rPr>
              <a:t>ransport end user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c93"/>
                </a:solidFill>
                <a:latin typeface="Arial"/>
              </a:rPr>
              <a:t>Benefits for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ore efficient less congested and less polluting transpo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vings in trave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vings in fuel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acces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r qualit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liennummernplatzhalter 4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BCF0-2A63-41DD-A01C-431CBB907F71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Objectives of the Work Program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9280" y="1904760"/>
            <a:ext cx="807696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499"/>
              </a:spcBef>
              <a:buClr>
                <a:srgbClr val="005c93"/>
              </a:buClr>
              <a:buFont typeface="Arial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c93"/>
                </a:solidFill>
                <a:latin typeface="Arial"/>
              </a:rPr>
              <a:t>Concept &amp; Analysis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t planning of the implementation phase to ensure that actions are implementable, and based on best practice; and that partners have the capacity to implement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005c93"/>
              </a:buClr>
              <a:buFont typeface="Arial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c93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172800">
              <a:spcBef>
                <a:spcPts val="499"/>
              </a:spcBef>
              <a:buClr>
                <a:srgbClr val="00618e"/>
              </a:buClr>
              <a:buSzPct val="110000"/>
              <a:buFont typeface="Arial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of a core-funding mechanism between parking space management and sustainable transport measures and concept for establishment of a self-sustain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172800">
              <a:spcBef>
                <a:spcPts val="499"/>
              </a:spcBef>
              <a:buClr>
                <a:srgbClr val="00618e"/>
              </a:buClr>
              <a:buSzPct val="110000"/>
              <a:buFont typeface="Arial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of parking space management and MM measures in 8 European si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liennummernplatzhalter 4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429B-07A8-4605-8F05-852FB3FC72C0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9280" y="836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Objectives of the Work Program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9280" y="15555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c93"/>
                </a:solidFill>
                <a:latin typeface="Arial"/>
              </a:rPr>
              <a:t>Training and capacit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llower cities and multipliers in 16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c93"/>
                </a:solidFill>
                <a:latin typeface="Arial"/>
              </a:rPr>
              <a:t>Quality Management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mplement a monitoring and evaluation method for the PUSH &amp; PULL a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monitor the implementation of the measures and their effect on the specific and strategic impa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escribe and evaluate the process of implementing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c93"/>
                </a:solidFill>
                <a:latin typeface="Arial"/>
              </a:rPr>
              <a:t>Communication and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spread the knowledge to followers, networks and organis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ecrease the barriers for stakeholders and actors wishing to implement parking space management in combination with encouraging and incentives for sustainabl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liennummernplatzhalter 4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62D4-7254-4452-844E-C7C098A97F26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Expected main outputs and products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logue of proven parking and mobility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of best implementation of parking spac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 for a core funding mechanism an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sheets of activities of all 8 implementation cities /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material and courses on parking space management and MM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chure and video clip on good reasons for Parking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publishable report 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liennummernplatzhalter 4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14EF-58AD-4175-B4D5-18BF53886804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Facts &amp; Figures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19280" y="1798560"/>
            <a:ext cx="8245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c93"/>
                </a:solidFill>
                <a:latin typeface="Arial"/>
              </a:rPr>
              <a:t>Push&amp;Pull in one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king management and incentives as successful and proven strategies for energy-efficient urban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c93"/>
                </a:solidFill>
                <a:latin typeface="Arial"/>
              </a:rPr>
              <a:t>Main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 months duration (March 2014 – February 20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partners from Europe (AT, ES, SE, UK, BE, PL, RO, NL,SI, 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ities / institutions are implementation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: € 1.839.84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 % IEE funding (€ 1.379.88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liennummernplatzhalter 4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D367-F797-4856-8B92-0BDD99C6FB69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General idea of PUSH&amp;PULL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719280" y="1905120"/>
            <a:ext cx="795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39840" indent="-339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5c93"/>
                </a:solidFill>
                <a:latin typeface="Arial"/>
              </a:rPr>
              <a:t>The big problems in urban transport a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c93"/>
                </a:solidFill>
                <a:latin typeface="Arial"/>
              </a:rPr>
              <a:t>1. </a:t>
            </a:r>
            <a:r>
              <a:rPr b="0" lang="en-GB" sz="2000" spc="-1" strike="noStrike">
                <a:solidFill>
                  <a:srgbClr val="005c93"/>
                </a:solidFill>
                <a:latin typeface="Arial"/>
              </a:rPr>
              <a:t>Overwhelming and steadily increasing use of cars in cities with all the negative impa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c93"/>
                </a:solidFill>
                <a:latin typeface="Arial"/>
              </a:rPr>
              <a:t>2. </a:t>
            </a:r>
            <a:r>
              <a:rPr b="0" lang="en-GB" sz="2000" spc="-1" strike="noStrike">
                <a:solidFill>
                  <a:srgbClr val="005c93"/>
                </a:solidFill>
                <a:latin typeface="Arial"/>
              </a:rPr>
              <a:t>Lack of (financial) resources to encourage use of sustainable modes of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liennummernplatzhalter 4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7B86-580D-492B-83F4-65F36BD8568A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General idea of PUSH&amp;PULL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pic>
        <p:nvPicPr>
          <p:cNvPr id="88" name="Picture 10" descr="funding_mechanism_1"/>
          <p:cNvPicPr/>
          <p:nvPr/>
        </p:nvPicPr>
        <p:blipFill>
          <a:blip r:embed="rId1"/>
          <a:stretch/>
        </p:blipFill>
        <p:spPr>
          <a:xfrm>
            <a:off x="1908000" y="2325600"/>
            <a:ext cx="4300560" cy="391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funding_mechanism_2"/>
          <p:cNvPicPr/>
          <p:nvPr/>
        </p:nvPicPr>
        <p:blipFill>
          <a:blip r:embed="rId2"/>
          <a:stretch/>
        </p:blipFill>
        <p:spPr>
          <a:xfrm>
            <a:off x="1908000" y="2325600"/>
            <a:ext cx="4300560" cy="3911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funding_mechanism_3"/>
          <p:cNvPicPr/>
          <p:nvPr/>
        </p:nvPicPr>
        <p:blipFill>
          <a:blip r:embed="rId3"/>
          <a:stretch/>
        </p:blipFill>
        <p:spPr>
          <a:xfrm>
            <a:off x="1908000" y="2325600"/>
            <a:ext cx="4300560" cy="3911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funding_mechanism_4"/>
          <p:cNvPicPr/>
          <p:nvPr/>
        </p:nvPicPr>
        <p:blipFill>
          <a:blip r:embed="rId4"/>
          <a:stretch/>
        </p:blipFill>
        <p:spPr>
          <a:xfrm>
            <a:off x="1908000" y="2325600"/>
            <a:ext cx="4300560" cy="3911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4"/>
          <p:cNvSpPr/>
          <p:nvPr/>
        </p:nvSpPr>
        <p:spPr>
          <a:xfrm>
            <a:off x="719280" y="179856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nding mechanism from the revenues of parking management (push) used to encorage the use of energy-efficient modes of transport (p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liennummernplatzhalter 5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90D6-961B-48B2-B7E7-A570FB509346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Consortium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9480" y="1628640"/>
          <a:ext cx="4033800" cy="4646880"/>
        </p:xfrm>
        <a:graphic>
          <a:graphicData uri="http://schemas.openxmlformats.org/drawingml/2006/table">
            <a:tbl>
              <a:tblPr/>
              <a:tblGrid>
                <a:gridCol w="2610000"/>
                <a:gridCol w="790560"/>
                <a:gridCol w="633240"/>
              </a:tblGrid>
              <a:tr h="3603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ian Mobility Resear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GM-AM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764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ity of Krak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872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smus University Rotterd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V B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72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 Un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U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72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 Tarragona Par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90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y of G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164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Planning Institute of the Republic of Slov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I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20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ssociation for Urban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72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tingham City Counc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90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 Institute of Urban Affai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164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Platform on Mobility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72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y of Öreb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90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si Metropolitan Area Assoc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60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ity of Bac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8252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Parking Assoc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96" name="Picture 251" descr="push_pull_europakarte_ireland"/>
          <p:cNvPicPr/>
          <p:nvPr/>
        </p:nvPicPr>
        <p:blipFill>
          <a:blip r:embed="rId1"/>
          <a:stretch/>
        </p:blipFill>
        <p:spPr>
          <a:xfrm>
            <a:off x="4643280" y="1628640"/>
            <a:ext cx="450072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6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8DA9-5ECC-4145-BC7D-34CF299F2F74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5. Consortium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9280" y="1700280"/>
            <a:ext cx="410976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c93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920" indent="-187920">
              <a:lnSpc>
                <a:spcPct val="90000"/>
              </a:lnSpc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Partners work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gether in on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consor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920" indent="-187920">
              <a:lnSpc>
                <a:spcPct val="90000"/>
              </a:lnSpc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sory committee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mobility exper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arcin Wole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Gerhard Ablass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vica Micev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eve 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575316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liennummernplatzhalter 4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B949-65EF-46B3-AA44-31BCF5915AE1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Consortium – Implementation partners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3040" y="1798560"/>
            <a:ext cx="7423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30000"/>
              </a:lnSpc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 (P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30000"/>
              </a:lnSpc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si (R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30000"/>
              </a:lnSpc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 Ljubljana (S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30000"/>
              </a:lnSpc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au (R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30000"/>
              </a:lnSpc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t (B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30000"/>
              </a:lnSpc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ragona (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30000"/>
              </a:lnSpc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tingham (U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30000"/>
              </a:lnSpc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Örebro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Bild 11" descr="TR0005-Tram_on_South_Parade_(NottmCityCouncil_2004)"/>
          <p:cNvPicPr/>
          <p:nvPr/>
        </p:nvPicPr>
        <p:blipFill>
          <a:blip r:embed="rId1"/>
          <a:stretch/>
        </p:blipFill>
        <p:spPr>
          <a:xfrm>
            <a:off x="5060880" y="5129280"/>
            <a:ext cx="1511280" cy="1054080"/>
          </a:xfrm>
          <a:prstGeom prst="rect">
            <a:avLst/>
          </a:prstGeom>
          <a:ln w="0">
            <a:noFill/>
          </a:ln>
        </p:spPr>
      </p:pic>
      <p:pic>
        <p:nvPicPr>
          <p:cNvPr id="105" name="Bild 7" descr="DSC00005"/>
          <p:cNvPicPr/>
          <p:nvPr/>
        </p:nvPicPr>
        <p:blipFill>
          <a:blip r:embed="rId2"/>
          <a:stretch/>
        </p:blipFill>
        <p:spPr>
          <a:xfrm>
            <a:off x="6659640" y="4086360"/>
            <a:ext cx="1447560" cy="1004760"/>
          </a:xfrm>
          <a:prstGeom prst="rect">
            <a:avLst/>
          </a:prstGeom>
          <a:ln w="0">
            <a:noFill/>
          </a:ln>
        </p:spPr>
      </p:pic>
      <p:pic>
        <p:nvPicPr>
          <p:cNvPr id="106" name="Bild 17" descr=""/>
          <p:cNvPicPr/>
          <p:nvPr/>
        </p:nvPicPr>
        <p:blipFill>
          <a:blip r:embed="rId3"/>
          <a:stretch/>
        </p:blipFill>
        <p:spPr>
          <a:xfrm>
            <a:off x="5148360" y="1916280"/>
            <a:ext cx="1423800" cy="998280"/>
          </a:xfrm>
          <a:prstGeom prst="rect">
            <a:avLst/>
          </a:prstGeom>
          <a:ln w="0">
            <a:noFill/>
          </a:ln>
        </p:spPr>
      </p:pic>
      <p:pic>
        <p:nvPicPr>
          <p:cNvPr id="107" name="Bild 19" descr=""/>
          <p:cNvPicPr/>
          <p:nvPr/>
        </p:nvPicPr>
        <p:blipFill>
          <a:blip r:embed="rId4"/>
          <a:stretch/>
        </p:blipFill>
        <p:spPr>
          <a:xfrm>
            <a:off x="6659640" y="1916280"/>
            <a:ext cx="1647720" cy="957240"/>
          </a:xfrm>
          <a:prstGeom prst="rect">
            <a:avLst/>
          </a:prstGeom>
          <a:ln w="0">
            <a:noFill/>
          </a:ln>
        </p:spPr>
      </p:pic>
      <p:pic>
        <p:nvPicPr>
          <p:cNvPr id="108" name="Bild 20" descr=""/>
          <p:cNvPicPr/>
          <p:nvPr/>
        </p:nvPicPr>
        <p:blipFill>
          <a:blip r:embed="rId5"/>
          <a:stretch/>
        </p:blipFill>
        <p:spPr>
          <a:xfrm>
            <a:off x="6659640" y="5141880"/>
            <a:ext cx="1630440" cy="1041480"/>
          </a:xfrm>
          <a:prstGeom prst="rect">
            <a:avLst/>
          </a:prstGeom>
          <a:ln w="0">
            <a:noFill/>
          </a:ln>
        </p:spPr>
      </p:pic>
      <p:pic>
        <p:nvPicPr>
          <p:cNvPr id="109" name="Grafik 68" descr="Centru"/>
          <p:cNvPicPr/>
          <p:nvPr/>
        </p:nvPicPr>
        <p:blipFill>
          <a:blip r:embed="rId6"/>
          <a:stretch/>
        </p:blipFill>
        <p:spPr>
          <a:xfrm>
            <a:off x="6659640" y="2973240"/>
            <a:ext cx="1423800" cy="1022400"/>
          </a:xfrm>
          <a:prstGeom prst="rect">
            <a:avLst/>
          </a:prstGeom>
          <a:ln w="0">
            <a:noFill/>
          </a:ln>
        </p:spPr>
      </p:pic>
      <p:sp>
        <p:nvSpPr>
          <p:cNvPr id="110" name="Rechteck 1"/>
          <p:cNvSpPr/>
          <p:nvPr/>
        </p:nvSpPr>
        <p:spPr>
          <a:xfrm>
            <a:off x="8083440" y="1700280"/>
            <a:ext cx="592200" cy="45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I:\Mobilitaetsmanagement_N-Z\PushPull\WP6 Dissemination\Lju (2)_klein_web.jpg"/>
          <p:cNvPicPr/>
          <p:nvPr/>
        </p:nvPicPr>
        <p:blipFill>
          <a:blip r:embed="rId7"/>
          <a:stretch/>
        </p:blipFill>
        <p:spPr>
          <a:xfrm>
            <a:off x="5216400" y="2975040"/>
            <a:ext cx="1355760" cy="102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I:\Mobilitaetsmanagement_N-Z\PushPull\WP6 Dissemination\Gent_klein_web.jpg"/>
          <p:cNvPicPr/>
          <p:nvPr/>
        </p:nvPicPr>
        <p:blipFill>
          <a:blip r:embed="rId8"/>
          <a:stretch/>
        </p:blipFill>
        <p:spPr>
          <a:xfrm>
            <a:off x="5238720" y="4086360"/>
            <a:ext cx="1333440" cy="1003320"/>
          </a:xfrm>
          <a:prstGeom prst="rect">
            <a:avLst/>
          </a:prstGeom>
          <a:ln w="0">
            <a:noFill/>
          </a:ln>
        </p:spPr>
      </p:pic>
      <p:sp>
        <p:nvSpPr>
          <p:cNvPr id="113" name="Rechteck 15"/>
          <p:cNvSpPr/>
          <p:nvPr/>
        </p:nvSpPr>
        <p:spPr>
          <a:xfrm>
            <a:off x="4700520" y="1700280"/>
            <a:ext cx="592200" cy="45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liennummernplatzhalter 6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298E-04D2-4C59-9787-80322005CE2C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Target groups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18920" y="1904760"/>
            <a:ext cx="807084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c93"/>
                </a:solidFill>
                <a:latin typeface="Arial"/>
              </a:rPr>
              <a:t>1. </a:t>
            </a:r>
            <a:r>
              <a:rPr b="1" lang="en-GB" sz="2000" spc="-1" strike="noStrike">
                <a:solidFill>
                  <a:srgbClr val="005c93"/>
                </a:solidFill>
                <a:latin typeface="Arial"/>
              </a:rPr>
              <a:t>City/Municipality Administration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c93"/>
                </a:solidFill>
                <a:latin typeface="Arial"/>
              </a:rPr>
              <a:t>Benefits for municipalit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ater public support for parkin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tools and knowledge available about parkin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arguments for parkin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ilored info on costs and benefits of parking and mobil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finance available for mobil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likely to achieve SUMP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liennummernplatzhalter 6"/>
          <p:cNvSpPr/>
          <p:nvPr/>
        </p:nvSpPr>
        <p:spPr>
          <a:xfrm>
            <a:off x="0" y="6453360"/>
            <a:ext cx="514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F2A2-8C74-454B-AFCC-5778BDBB17D4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9280" y="10792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18e"/>
                </a:solidFill>
                <a:latin typeface="Arial"/>
              </a:rPr>
              <a:t>Target groups</a:t>
            </a:r>
            <a:endParaRPr b="1" lang="en-US" sz="3000" spc="-1" strike="noStrike">
              <a:solidFill>
                <a:srgbClr val="00618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18920" y="1904760"/>
            <a:ext cx="807084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c93"/>
                </a:solidFill>
                <a:latin typeface="Arial"/>
              </a:rPr>
              <a:t>2. </a:t>
            </a:r>
            <a:r>
              <a:rPr b="1" lang="en-GB" sz="2000" spc="-1" strike="noStrike">
                <a:solidFill>
                  <a:srgbClr val="005c93"/>
                </a:solidFill>
                <a:latin typeface="Arial"/>
              </a:rPr>
              <a:t>Politicians and other Key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c93"/>
                </a:solidFill>
                <a:latin typeface="Arial"/>
              </a:rPr>
              <a:t>Benef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ore reliable stream of finance for mobilit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political exposure/controversy over parking management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6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likely to achieve SUMP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9:14:56Z</dcterms:created>
  <dc:creator>carvalho</dc:creator>
  <dc:description/>
  <dc:language>en-US</dc:language>
  <cp:lastModifiedBy>Robert Pressl</cp:lastModifiedBy>
  <dcterms:modified xsi:type="dcterms:W3CDTF">2014-05-27T06:03:42Z</dcterms:modified>
  <cp:revision>29</cp:revision>
  <dc:subject/>
  <dc:title>Folie 1</dc:title>
</cp:coreProperties>
</file>