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5024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156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928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45024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156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F26B-0335-4146-80BF-CC66104519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6418-B573-4A06-A3C7-62C2D7F207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9D64-4DF3-4DD3-86C4-068CC377FA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EA6F-A189-4AC2-83BF-79D1B6E2C3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689F-A6DD-4382-8BC7-3327D6031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19280" y="107928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254F-7BD5-408E-8760-8349BAB78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28E0-F902-4CAD-BBE1-AD678042B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B92E-034F-481F-908F-C06AEB3ED2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C27A-345D-430D-9000-D29E99A82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5B08-9A87-484B-AC86-850389DF74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62FC-56FD-41FB-9C78-D07958483F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024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156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1928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024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156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A4B6-60CA-4187-BB27-C488EDAB3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19280" y="107928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Push-and-Pull_vorseite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Push and Pull_unterenbalken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8" name="Fußzeilenplatzhalter 3"/>
          <p:cNvSpPr/>
          <p:nvPr/>
        </p:nvSpPr>
        <p:spPr>
          <a:xfrm>
            <a:off x="719280" y="6477120"/>
            <a:ext cx="5715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push-pull-parking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Push and Pull_balken_1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3"/>
          <p:cNvSpPr>
            <a:spLocks noGrp="1"/>
          </p:cNvSpPr>
          <p:nvPr>
            <p:ph type="sldNum" idx="1"/>
          </p:nvPr>
        </p:nvSpPr>
        <p:spPr>
          <a:xfrm>
            <a:off x="-36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97E8-69FB-4561-B573-A43C662819C4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hteck 1"/>
          <p:cNvSpPr/>
          <p:nvPr/>
        </p:nvSpPr>
        <p:spPr>
          <a:xfrm>
            <a:off x="1187280" y="3357720"/>
            <a:ext cx="66978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93"/>
                </a:solidFill>
                <a:latin typeface="Arial"/>
              </a:rPr>
              <a:t>Parking management and incentives as successful and proven strategies for energy-efficient urban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ordinated by FGM-AMO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ssl, Ro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35CD-CB55-47FF-B8BE-4B8F662D1DB5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Target group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8920" y="1904760"/>
            <a:ext cx="80708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93"/>
                </a:solidFill>
                <a:latin typeface="Arial"/>
              </a:rPr>
              <a:t>3. T</a:t>
            </a:r>
            <a:r>
              <a:rPr b="1" lang="en-GB" sz="2000" spc="-1" strike="noStrike">
                <a:solidFill>
                  <a:srgbClr val="005c93"/>
                </a:solidFill>
                <a:latin typeface="Arial"/>
              </a:rPr>
              <a:t>ransport end user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Benefits fo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ore efficient less congested and less polluting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ings in trave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ings in fuel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3F0-D64C-4133-870C-ED9901B863A4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Objectives of the Work Progra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9280" y="1904760"/>
            <a:ext cx="80769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499"/>
              </a:spcBef>
              <a:buClr>
                <a:srgbClr val="005c93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c93"/>
                </a:solidFill>
                <a:latin typeface="Arial"/>
              </a:rPr>
              <a:t>Concept &amp; Analysis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t planning of the implementation phase to ensure that actions are implementable, and based on best practice; and that partners have the capacity to implemen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5c93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c93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2800">
              <a:spcBef>
                <a:spcPts val="499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a core-funding mechanism between parking space management and sustainable transport measures and concept for establishment of a self-sustai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2800">
              <a:spcBef>
                <a:spcPts val="499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parking space management and MM measures in 8 European si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F2D7-AF8C-4ABF-9936-04DCCAEF9AFD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9280" y="836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Objectives of the Work Progra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9280" y="15555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c93"/>
                </a:solidFill>
                <a:latin typeface="Arial"/>
              </a:rPr>
              <a:t>Training and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lower cities and multipliers in 16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c93"/>
                </a:solidFill>
                <a:latin typeface="Arial"/>
              </a:rPr>
              <a:t>Quality Management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lement a monitoring and evaluation method for the PUSH &amp; PULL 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onitor the implementation of the measures and their effect on the specific and strategic impa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scribe and evaluate the process of implementing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c93"/>
                </a:solidFill>
                <a:latin typeface="Arial"/>
              </a:rPr>
              <a:t>Communication and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pread the knowledge to followers, networks and organis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crease the barriers for stakeholders and actors wishing to implement parking space management in combination with encouraging and incentives for sustainabl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298-CAC0-48EF-9C9D-A5F96F818522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Expected main outputs and product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ogue of proven parking and mobility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best implementation of parking spa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for a core funding mechanism a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sheets of activities of all 8 implementation cities /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material and courses on parking space management and M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chure and video clip on good reasons for Parkin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publishable report 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1B7-09E8-4016-A5A1-7F861A04D3F2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Facts &amp; Figure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245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c93"/>
                </a:solidFill>
                <a:latin typeface="Arial"/>
              </a:rPr>
              <a:t>Push&amp;Pull in one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king management and incentives as successful and proven strategies for energy-efficient urban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c93"/>
                </a:solidFill>
                <a:latin typeface="Arial"/>
              </a:rPr>
              <a:t>Main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 months duration (March 2014 – February 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partners from Europe (AT, ES, SE, UK, BE, PL, RO, NL,SI, 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ities / institutions are implementatio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: € 1.839.8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% IEE funding (€ 1.379.88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CEB2-CCA4-464A-9635-819062B79A60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General idea of PUSH&amp;PULL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19280" y="1905120"/>
            <a:ext cx="79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39840" indent="-33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93"/>
                </a:solidFill>
                <a:latin typeface="Arial"/>
              </a:rPr>
              <a:t>The big problems in urban transport 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5c93"/>
                </a:solidFill>
                <a:latin typeface="Arial"/>
              </a:rPr>
              <a:t>Overwhelming and steadily increasing use of cars in cities with all the negative imp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2. </a:t>
            </a:r>
            <a:r>
              <a:rPr b="0" lang="en-GB" sz="2000" spc="-1" strike="noStrike">
                <a:solidFill>
                  <a:srgbClr val="005c93"/>
                </a:solidFill>
                <a:latin typeface="Arial"/>
              </a:rPr>
              <a:t>Lack of (financial) resources to encourage use of sustainable modes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2E7-97DD-44F8-B71C-26C30C3A6E57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General idea of PUSH&amp;PULL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pic>
        <p:nvPicPr>
          <p:cNvPr id="88" name="Picture 10" descr="funding_mechanism_1"/>
          <p:cNvPicPr/>
          <p:nvPr/>
        </p:nvPicPr>
        <p:blipFill>
          <a:blip r:embed="rId1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funding_mechanism_2"/>
          <p:cNvPicPr/>
          <p:nvPr/>
        </p:nvPicPr>
        <p:blipFill>
          <a:blip r:embed="rId2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funding_mechanism_3"/>
          <p:cNvPicPr/>
          <p:nvPr/>
        </p:nvPicPr>
        <p:blipFill>
          <a:blip r:embed="rId3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funding_mechanism_4"/>
          <p:cNvPicPr/>
          <p:nvPr/>
        </p:nvPicPr>
        <p:blipFill>
          <a:blip r:embed="rId4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719280" y="179856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ding mechanism from the revenues of parking management (push) used to encorage the use of energy-efficient modes of transport (p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5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F8E3-7B46-4B9D-9B97-2CF9078BAA78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Consortiu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628640"/>
          <a:ext cx="4033800" cy="4646880"/>
        </p:xfrm>
        <a:graphic>
          <a:graphicData uri="http://schemas.openxmlformats.org/drawingml/2006/table">
            <a:tbl>
              <a:tblPr/>
              <a:tblGrid>
                <a:gridCol w="2610000"/>
                <a:gridCol w="790560"/>
                <a:gridCol w="633240"/>
              </a:tblGrid>
              <a:tr h="3603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n Mobility 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GM-AM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6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ty of Krak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smus University Rotter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V B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 Un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Tarragona Pa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of 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16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Planning Institute of the Republic of 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20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ssociation for Urba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tingham City Counc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 Institute of Urban Affai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16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Platform on Mobility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of Öreb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si Metropolitan Area Asso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60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ty of Bac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5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Parking Asso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251" descr="push_pull_europakarte_ireland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BB61-4866-46D0-8A6F-8341C1993EB3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5. Consortiu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41097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-187920">
              <a:lnSpc>
                <a:spcPct val="9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Partners work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in 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-187920">
              <a:lnSpc>
                <a:spcPct val="9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mmitte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obility exper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cin Wole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erhard Ablass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vica Micev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eve 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7531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0638-1FB1-418B-A069-632FDACA9827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Consortium – Implementation partner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3040" y="1798560"/>
            <a:ext cx="7423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 (P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si (R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 Ljubljana (S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au (R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 (B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ragona (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tingham (U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rebro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11" descr="TR0005-Tram_on_South_Parade_(NottmCityCouncil_2004)"/>
          <p:cNvPicPr/>
          <p:nvPr/>
        </p:nvPicPr>
        <p:blipFill>
          <a:blip r:embed="rId1"/>
          <a:stretch/>
        </p:blipFill>
        <p:spPr>
          <a:xfrm>
            <a:off x="5060880" y="5129280"/>
            <a:ext cx="1511280" cy="1054080"/>
          </a:xfrm>
          <a:prstGeom prst="rect">
            <a:avLst/>
          </a:prstGeom>
          <a:ln w="0">
            <a:noFill/>
          </a:ln>
        </p:spPr>
      </p:pic>
      <p:pic>
        <p:nvPicPr>
          <p:cNvPr id="105" name="Bild 7" descr="DSC00005"/>
          <p:cNvPicPr/>
          <p:nvPr/>
        </p:nvPicPr>
        <p:blipFill>
          <a:blip r:embed="rId2"/>
          <a:stretch/>
        </p:blipFill>
        <p:spPr>
          <a:xfrm>
            <a:off x="6659640" y="408636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7" descr=""/>
          <p:cNvPicPr/>
          <p:nvPr/>
        </p:nvPicPr>
        <p:blipFill>
          <a:blip r:embed="rId3"/>
          <a:stretch/>
        </p:blipFill>
        <p:spPr>
          <a:xfrm>
            <a:off x="5148360" y="1916280"/>
            <a:ext cx="1423800" cy="998280"/>
          </a:xfrm>
          <a:prstGeom prst="rect">
            <a:avLst/>
          </a:prstGeom>
          <a:ln w="0">
            <a:noFill/>
          </a:ln>
        </p:spPr>
      </p:pic>
      <p:pic>
        <p:nvPicPr>
          <p:cNvPr id="107" name="Bild 19" descr=""/>
          <p:cNvPicPr/>
          <p:nvPr/>
        </p:nvPicPr>
        <p:blipFill>
          <a:blip r:embed="rId4"/>
          <a:stretch/>
        </p:blipFill>
        <p:spPr>
          <a:xfrm>
            <a:off x="6659640" y="1916280"/>
            <a:ext cx="1647720" cy="957240"/>
          </a:xfrm>
          <a:prstGeom prst="rect">
            <a:avLst/>
          </a:prstGeom>
          <a:ln w="0">
            <a:noFill/>
          </a:ln>
        </p:spPr>
      </p:pic>
      <p:pic>
        <p:nvPicPr>
          <p:cNvPr id="108" name="Bild 20" descr=""/>
          <p:cNvPicPr/>
          <p:nvPr/>
        </p:nvPicPr>
        <p:blipFill>
          <a:blip r:embed="rId5"/>
          <a:stretch/>
        </p:blipFill>
        <p:spPr>
          <a:xfrm>
            <a:off x="6659640" y="5141880"/>
            <a:ext cx="1630440" cy="1041480"/>
          </a:xfrm>
          <a:prstGeom prst="rect">
            <a:avLst/>
          </a:prstGeom>
          <a:ln w="0">
            <a:noFill/>
          </a:ln>
        </p:spPr>
      </p:pic>
      <p:pic>
        <p:nvPicPr>
          <p:cNvPr id="109" name="Grafik 68" descr="Centru"/>
          <p:cNvPicPr/>
          <p:nvPr/>
        </p:nvPicPr>
        <p:blipFill>
          <a:blip r:embed="rId6"/>
          <a:stretch/>
        </p:blipFill>
        <p:spPr>
          <a:xfrm>
            <a:off x="6659640" y="2973240"/>
            <a:ext cx="1423800" cy="1022400"/>
          </a:xfrm>
          <a:prstGeom prst="rect">
            <a:avLst/>
          </a:prstGeom>
          <a:ln w="0">
            <a:noFill/>
          </a:ln>
        </p:spPr>
      </p:pic>
      <p:sp>
        <p:nvSpPr>
          <p:cNvPr id="110" name="Rechteck 1"/>
          <p:cNvSpPr/>
          <p:nvPr/>
        </p:nvSpPr>
        <p:spPr>
          <a:xfrm>
            <a:off x="8083440" y="1700280"/>
            <a:ext cx="59220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I:\Mobilitaetsmanagement_N-Z\PushPull\WP6 Dissemination\Lju (2)_klein_web.jpg"/>
          <p:cNvPicPr/>
          <p:nvPr/>
        </p:nvPicPr>
        <p:blipFill>
          <a:blip r:embed="rId7"/>
          <a:stretch/>
        </p:blipFill>
        <p:spPr>
          <a:xfrm>
            <a:off x="5216400" y="2975040"/>
            <a:ext cx="1355760" cy="102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I:\Mobilitaetsmanagement_N-Z\PushPull\WP6 Dissemination\Gent_klein_web.jpg"/>
          <p:cNvPicPr/>
          <p:nvPr/>
        </p:nvPicPr>
        <p:blipFill>
          <a:blip r:embed="rId8"/>
          <a:stretch/>
        </p:blipFill>
        <p:spPr>
          <a:xfrm>
            <a:off x="5238720" y="4086360"/>
            <a:ext cx="1333440" cy="1003320"/>
          </a:xfrm>
          <a:prstGeom prst="rect">
            <a:avLst/>
          </a:prstGeom>
          <a:ln w="0">
            <a:noFill/>
          </a:ln>
        </p:spPr>
      </p:pic>
      <p:sp>
        <p:nvSpPr>
          <p:cNvPr id="113" name="Rechteck 15"/>
          <p:cNvSpPr/>
          <p:nvPr/>
        </p:nvSpPr>
        <p:spPr>
          <a:xfrm>
            <a:off x="4700520" y="1700280"/>
            <a:ext cx="592200" cy="45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F0E-A3C2-4961-970B-1DD44CEA4308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Target group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04760"/>
            <a:ext cx="80708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93"/>
                </a:solidFill>
                <a:latin typeface="Arial"/>
              </a:rPr>
              <a:t>1. </a:t>
            </a:r>
            <a:r>
              <a:rPr b="1" lang="en-GB" sz="2000" spc="-1" strike="noStrike">
                <a:solidFill>
                  <a:srgbClr val="005c93"/>
                </a:solidFill>
                <a:latin typeface="Arial"/>
              </a:rPr>
              <a:t>City/Municipality Administration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Benefits for municipalit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ater public support for park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ools and knowledge available about park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arguments for park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lored info on costs and benefits of parking and 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finance available for 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achieve SUMP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762-B744-4E35-9758-FFFDE84AEB2A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Target group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18920" y="1904760"/>
            <a:ext cx="80708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93"/>
                </a:solidFill>
                <a:latin typeface="Arial"/>
              </a:rPr>
              <a:t>2. </a:t>
            </a:r>
            <a:r>
              <a:rPr b="1" lang="en-GB" sz="2000" spc="-1" strike="noStrike">
                <a:solidFill>
                  <a:srgbClr val="005c93"/>
                </a:solidFill>
                <a:latin typeface="Arial"/>
              </a:rPr>
              <a:t>Politicians and other Key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ore reliable stream of finance for mobilit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political exposure/controversy over parking managem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achieve SUMP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9:14:56Z</dcterms:created>
  <dc:creator>carvalho</dc:creator>
  <dc:description/>
  <dc:language>en-US</dc:language>
  <cp:lastModifiedBy>Robert Pressl</cp:lastModifiedBy>
  <dcterms:modified xsi:type="dcterms:W3CDTF">2014-05-27T06:03:42Z</dcterms:modified>
  <cp:revision>29</cp:revision>
  <dc:subject/>
  <dc:title>Folie 1</dc:title>
</cp:coreProperties>
</file>